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4D95-E570-4E95-9914-FF8E50FCF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20F8-BDD1-42C1-8BF7-3BFDA50B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1B81-5CF1-476D-B0C4-F394866A9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B409-E88F-4D4B-BA33-EF14D748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623E-9431-4AF1-A5EB-D94D866A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2505-7096-40DD-835A-6868CF0A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C111-2B5C-436F-94CA-141B2D44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D249-D89B-4DA3-9929-409884A1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5FB1-DC28-4116-B178-EC7A0B32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530D-C20E-472C-ADD9-3A4554EB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2E53-F868-4515-A28A-B580CAD4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11BB-F80F-4074-BCDE-30887DF8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CC95-CA32-46BA-8616-B22CDB20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6C17-BB10-42F2-804C-03CCB076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81BA-9EB4-493A-87BA-C0763191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BD92-2AC4-42B8-8352-2C4FBE0D1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DFB2-F5B8-4DFD-8928-630B8D116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A683-5B2F-4289-99A7-423F8FCF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E0B8-1331-4D54-A54F-517BAE0E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7C54-C275-4697-BA1F-21291C9C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A901-41B5-45D0-8B72-C9FBA467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67C1-F080-455D-9AC7-CEB031DB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A5BA-22F2-4606-B98B-158454FD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5D62-B8BB-4A8E-A6B0-BE9AE5F1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8DE3-D545-4BCE-9786-B75B2C5F8A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7901-73C3-4FF5-840C-016BB4243A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docdingley.com/links/images/sports/Badminton_Extreme.jpg&amp;imgrefurl=http://www.docdingley.com/links/Sports.htm&amp;usg=__B0JPieGConJyhR1LNo2gAMKCPfU=&amp;h=430&amp;w=290&amp;sz=30&amp;hl=en&amp;start=2&amp;tbnid=5YpW2oCr62DZmM:&amp;tbnh=126&amp;tbnw=85&amp;prev=/images%3Fq%3Dbadminton%26gbv%3D2%26hl%3Den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Comic Sans MS"/>
              </a:rPr>
              <a:t>Skills &amp; Techniqu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esson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iss Doo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59640" y="3500280"/>
            <a:ext cx="2484360" cy="3357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0" y="3284640"/>
            <a:ext cx="2916360" cy="3573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3419640" y="333360"/>
            <a:ext cx="255564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Question 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As a result of analysing your data give a detailed explanation of your development needs. (3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You want to include your weaknesses in a training program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Methods of practice you used to improve your weak skills and why they are effect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Learning Outco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By the end of this lesson you shoul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e able to complete part 1 of the NAB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Know the 3 st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f lear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Know the metho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f pract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Stages of Lear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1 – The Preparation (Cognitive) St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2 – The Practice (Associative) St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3 – The Automatic (Autonomous) St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Methods of Practi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There is a variety of different methods of practice which we use to develop our skills and techniq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hadow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Repetition without m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Repetition with m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Continuous R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Combination R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Conditioned G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(Gradual Build U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(Whole Part Who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Stage of Learning Ladd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State what practices would be used at each stage of lear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                                               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Autono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                       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Associ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Cogniti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NAB – Part 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Done as home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4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At least ½ a page per ques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MUST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 be returned Tuesday 17</a:t>
            </a:r>
            <a:r>
              <a:rPr b="0" lang="en-GB" sz="3200" spc="-1" strike="noStrike" baseline="30000">
                <a:solidFill>
                  <a:srgbClr val="ffff00"/>
                </a:solidFill>
                <a:latin typeface="Comic Sans MS"/>
              </a:rPr>
              <a:t>th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 November 200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Question 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Describe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 the methods used to identify your performance strengths and weaknesses. (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bservation Schedules (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 Consideration of Quality, Movement Analysis, Scatter graph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Video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Question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Explain why these methods were appropriate.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Permanent record – so allowing you to compare them to previous schedules you have done to see if improv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Compare them – to a model performer eg. Another member of the class or a professional athle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Reliable – as carried out in a controlled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port specific to badminton – allows you to improve the spo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They are effective and appropri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Question 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As a result of analysing your data give a detailed explanation of your strengths and weaknesses. (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tate your weak and strong skills within badmin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How would these effect your 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From using the methods of gathering information what strengths and weaknesses  have you identifi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7:55:57Z</dcterms:created>
  <dc:creator>DooganS</dc:creator>
  <dc:description/>
  <dc:language>en-US</dc:language>
  <cp:lastModifiedBy>DooganS</cp:lastModifiedBy>
  <dcterms:modified xsi:type="dcterms:W3CDTF">2009-11-09T18:36:50Z</dcterms:modified>
  <cp:revision>8</cp:revision>
  <dc:subject/>
  <dc:title>Slide 1</dc:title>
</cp:coreProperties>
</file>